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chimes.wav" ContentType="audio/x-wav"/>
  <Override PartName="/ppt/media/image7.png" ContentType="image/png"/>
  <Override PartName="/ppt/media/image1.jpeg" ContentType="image/jpeg"/>
  <Override PartName="/ppt/media/drumroll.wav" ContentType="audio/x-wav"/>
  <Override PartName="/ppt/media/applause.wav" ContentType="audio/x-wav"/>
  <Override PartName="/ppt/media/image10.png" ContentType="image/png"/>
  <Override PartName="/ppt/media/image5.jpeg" ContentType="image/jpeg"/>
  <Override PartName="/ppt/media/type.wav" ContentType="audio/x-wav"/>
  <Override PartName="/ppt/media/image15.jpeg" ContentType="image/jpeg"/>
  <Override PartName="/ppt/media/image14.png" ContentType="image/png"/>
  <Override PartName="/ppt/media/image13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media/image11.png" ContentType="image/png"/>
  <Override PartName="/ppt/media/camera.wav" ContentType="audio/x-wav"/>
  <Override PartName="/ppt/media/image6.png" ContentType="image/png"/>
  <Override PartName="/ppt/media/image9.jpeg" ContentType="image/jpeg"/>
  <Override PartName="/ppt/media/image2.jpeg" ContentType="image/jpeg"/>
  <Override PartName="/ppt/media/image3.png" ContentType="image/png"/>
  <Override PartName="/ppt/media/gunsho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2CA-459A-47F7-AE0F-0F27DACB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46C-3D68-405B-B608-9A4D1A98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E5D-D846-428E-BE59-6746AC10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A74-6927-4B87-9B3C-5F66BB53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6D53-46A5-4456-A3CA-D18E6A69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8A19-A08E-4625-AB2E-50B62687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5AAD-644E-4489-A4B3-7669A071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299-8CE7-41F7-AEB6-AB396B3D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D92C-92AC-4EBB-9AAE-2D5C2AF9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29DA-45D4-4ED0-AB80-2E84D90C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F69B-5367-4EEC-858D-1DE38821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F72-26D6-4012-91F4-56BC7835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7CAB-0C79-41A4-BF51-7A3207E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3B0C-AC0C-4DC9-BCB7-9A110ED4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576B-0F55-4BDF-B71C-6BA4A1EE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5D26-2C2D-4714-863C-652E022B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FF51-143E-446E-A77C-A3812A59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1BB-CE15-4230-9E1D-19DD01E4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119-292B-49FF-88AB-0F1B858D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399-E9F3-4372-AEDB-030165B4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A39-169F-46C1-9AA7-8C9B7742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C2B-91A5-46B4-A001-40216F01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6A1-D1A7-40B7-921E-2EA3C896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9DA-671F-4C15-BF85-6D21734B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FB8B-1EF1-40C6-B7ED-8A04BD2EC5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1094-0351-4140-A463-2EE40F3314F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9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5tt.com/Movie/index/ask.html" TargetMode="External"/><Relationship Id="rId2" Type="http://schemas.openxmlformats.org/officeDocument/2006/relationships/image" Target="../media/image9.jpeg"/><Relationship Id="rId3" Type="http://schemas.openxmlformats.org/officeDocument/2006/relationships/audio" Target="file:///tmp/home/.config/libreoffice/4/user/gallery/drumroll.wav" TargetMode="External"/><Relationship Id="rId4" Type="http://schemas.microsoft.com/office/2007/relationships/media" Target="file:///tmp/home/.config/libreoffice/4/user/gallery/drumroll.wav" TargetMode="External"/><Relationship Id="rId5" Type="http://schemas.openxmlformats.org/officeDocument/2006/relationships/image" Target="../media/image10.png"/><Relationship Id="rId6" Type="http://schemas.openxmlformats.org/officeDocument/2006/relationships/audio" Target="../media/drumroll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45356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zh-CN" sz="6000" spc="-1" strike="noStrike">
                <a:solidFill>
                  <a:srgbClr val="e4005c"/>
                </a:solidFill>
                <a:latin typeface="Arial"/>
                <a:ea typeface="黑体"/>
              </a:rPr>
              <a:t>热 烈 欢 迎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e4005c"/>
                </a:solidFill>
                <a:latin typeface="Arial"/>
                <a:ea typeface="黑体"/>
              </a:rPr>
              <a:t>广大家长们来校交流指导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604360" y="6381720"/>
            <a:ext cx="29664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良 好 的 家 庭 教 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632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是  孩  子  成  功  人  生  的  基  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438280" y="22860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e4005c"/>
                </a:solidFill>
                <a:latin typeface="黑体"/>
                <a:ea typeface="黑体"/>
              </a:rPr>
              <a:t>爱  的  教  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e4005c"/>
                </a:solidFill>
                <a:latin typeface="Arial"/>
              </a:rPr>
              <a:t>是 教 育 的 真 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40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愿您的孩子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   与龙岭初中一起走向成功</a:t>
            </a:r>
            <a:br>
              <a:rPr sz="4400"/>
            </a:b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124000" y="907920"/>
            <a:ext cx="59040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欢迎家长</a:t>
            </a:r>
            <a:endParaRPr b="1" i="1" lang="en-US" sz="96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306864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Comic Sans MS"/>
                <a:ea typeface="新宋体"/>
              </a:rPr>
              <a:t>朋友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5157720"/>
            <a:ext cx="3673440" cy="459720"/>
          </a:xfrm>
          <a:prstGeom prst="rect">
            <a:avLst/>
          </a:prstGeom>
          <a:solidFill>
            <a:srgbClr val="c36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8bf9"/>
                </a:solidFill>
                <a:latin typeface="Comic Sans MS"/>
              </a:rPr>
              <a:t> </a:t>
            </a:r>
            <a:r>
              <a:rPr b="0" lang="zh-CN" sz="2400" spc="-1" strike="noStrike">
                <a:solidFill>
                  <a:srgbClr val="c58bf9"/>
                </a:solidFill>
                <a:latin typeface="Comic Sans MS"/>
              </a:rPr>
              <a:t>初三（</a:t>
            </a:r>
            <a:r>
              <a:rPr b="0" lang="zh-CN" sz="2400" spc="-1" strike="noStrike">
                <a:solidFill>
                  <a:srgbClr val="c58bf9"/>
                </a:solidFill>
                <a:latin typeface="Comic Sans MS"/>
              </a:rPr>
              <a:t>4</a:t>
            </a:r>
            <a:r>
              <a:rPr b="0" lang="zh-CN" sz="2400" spc="-1" strike="noStrike">
                <a:solidFill>
                  <a:srgbClr val="c58bf9"/>
                </a:solidFill>
                <a:latin typeface="Comic Sans MS"/>
              </a:rPr>
              <a:t>）班全体师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609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2006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89000"/>
            <a:ext cx="20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33720" y="762120"/>
            <a:ext cx="28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4800" y="23623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40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各位家长你们好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首先，我非常感谢您的到来，感谢大家对我工作的支持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由此我也看到了您对孩子的关心和爱护。您也一定关心孩子的成绩，以及将来的前途。也许你正为自己的孩子感到骄傲和自豪，也许你在为自己的孩子感到担忧和不满，甚至气愤、失望。但是请你无论如何要冷静下来，用一颗平常心去公平地看待你的孩子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成绩只代表现在，成绩也并不代表一切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为了孩子的将来，让我们学校与家庭携手，把握今天的点点滴滴，创造明天的辉煌成就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83908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920" y="24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84560" y="623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8604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今天的家长会主要有以下几项内容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班长吕利华介绍这学期班级总体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学习标兵沈颜玲汇报开学以来学习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班主任作班级整体情况报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家长代表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王维家长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介绍教育经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任课老师发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家长自由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HARU插画壁纸 S.Korean cartoons wallpapers - haru illustation 02 17 - w_l_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533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049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 u="sng">
                <a:solidFill>
                  <a:srgbClr val="9966ff"/>
                </a:solidFill>
                <a:uFillTx/>
                <a:latin typeface="Times New Roman"/>
                <a:ea typeface="黑体"/>
              </a:rPr>
              <a:t>请了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514600"/>
            <a:ext cx="32767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e4005c"/>
                </a:solidFill>
                <a:uFillTx/>
                <a:latin typeface="Times New Roman"/>
                <a:ea typeface="幼圆"/>
                <a:hlinkClick r:id="rId2" action="ppaction://hlinksldjump"/>
              </a:rPr>
              <a:t>班级现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191120"/>
            <a:ext cx="3353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e4005c"/>
                </a:solidFill>
                <a:uFillTx/>
                <a:latin typeface="Times New Roman"/>
                <a:ea typeface="华文彩云"/>
                <a:hlinkClick r:id="rId3" action="ppaction://hlinksldjump"/>
              </a:rPr>
              <a:t>成绩状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1400040" y="-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温馨可爱《小熊维尼》卡通壁纸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-387360"/>
            <a:ext cx="9144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位家长，你们好！我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班的班长吕利华，首先让我向大家介绍一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这学期的总体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学已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月了。在这段时间里我们班有付出，有收获。相比初一阶段、初二阶段，我们每个人以及整个班集体在各方面都有了很大的进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风越来越好（凝聚力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初二升到初三，我们没有明确的学习目标，课堂上不注意听讲，学习态度不端正，班主任陈老师排座位时，大家都不愿意坐前排，都想坐后面，并且还想象过去那样，在陈老师的开导下，我们端正了学习态度，明确了学习目标，渐渐形成了一种良好的班风——同学之间能互相合作。上课认真思考，专心听讲，也正是这种态度，在学习，各类活动中，我们班都能个取得优异的成绩。在教师节征文比赛中，刘静敏获得一等奖，李娜获得二等奖，罗蓝萍获得三等奖。在国旗下讲话稿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征文比赛中，蔡丽莎、余金玲获得一等奖，温丽婷获得三等奖 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班的班干部能够友善的管理好班级。为班级争取到了许多面红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韩国卡通小狗 19 - wallcoo_com_BABU019.jp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-458640"/>
            <a:ext cx="91440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  </a:t>
            </a:r>
            <a:r>
              <a:rPr b="0" lang="zh-CN" sz="2800" spc="-1" strike="noStrike" u="sng">
                <a:solidFill>
                  <a:srgbClr val="e4005c"/>
                </a:solidFill>
                <a:uFillTx/>
                <a:latin typeface="宋体"/>
                <a:hlinkClick r:id="rId2" action="ppaction://hlinksldjump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   形成了良好的学习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初一、初二的综合考试看出，我们班的成绩并不是很好。但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并没有因为这个而失去了信心。每天早晨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前就有许多同学已经坐在教室，自觉的开始早读。平时课间还有许多同学自觉的到老师办公室背诵单词。上课，同学们跟着老师的节奏，积极发言，因此，许多任课老师格外的喜欢到我们班来上课，听课。就凭着这种学习态度，我们班的成绩一次比一次进步。科学这项科目一向是我们班的弱点，可是在这次期中考试，我们班进步的很快。同学们在班主任陈老师的带领下努力学习，陈老师耐心细致的讲解和他丰富的教学经验，激发了我们大家的学习兴趣。学习上取得特别大进步。但是我们班还存在一些不足的地方。比如说卫生搞的还不够积极，卫生红旗拿的也比较少。对此，我们班干部也采取了一些措施，近几个礼拜有明显转变，希望各位家长也要有意识的培养同学们的劳动观念，最后希望我们班能够在各位老师、家长和每位同学的共同努力下取的更大的进步！谢谢大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609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2209680"/>
            <a:ext cx="8153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生代表发言</a:t>
            </a:r>
            <a:endParaRPr b="0" lang="en-US" sz="7200" spc="1" strike="noStrike">
              <a:ln w="12600">
                <a:solidFill>
                  <a:srgbClr val="ff00ff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5c"/>
                </a:solidFill>
                <a:latin typeface="Arial"/>
                <a:ea typeface="黑体"/>
              </a:rPr>
              <a:t>教育宗旨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e4005c"/>
                </a:solidFill>
                <a:latin typeface="Arial"/>
                <a:ea typeface="黑体"/>
              </a:rPr>
              <a:t>对学生全面负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5c"/>
                </a:solidFill>
                <a:latin typeface="Arial"/>
              </a:rPr>
              <a:t>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800" spc="-1" strike="noStrike">
                <a:solidFill>
                  <a:srgbClr val="e4005c"/>
                </a:solidFill>
                <a:latin typeface="Arial"/>
                <a:ea typeface="黑体"/>
              </a:rPr>
              <a:t>为学生终生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62728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62320" y="609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94840" y="549360"/>
            <a:ext cx="13993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Arial"/>
              </a:rPr>
              <a:t>班主任作班级情况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54936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219320"/>
            <a:ext cx="914400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沈艳玲     蔡丽莎   王    维     李    明     刘静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吴泽涛    王树健    章泽龙     卓志海     蔡婷婷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薛丹燕     李武鑫    李  娜      于    真     温丽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等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858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九月份月考取得较好成绩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5234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914400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本学期各方面明显进步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沈艳玲     蔡丽莎    王  维      李  明      刘静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吴泽涛     王树健    章泽龙      卓志海      蔡婷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薛丹燕     李武鑫    李  娜      于  真      温丽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本学期学习勤奋者：</a:t>
            </a: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沈艳玲  蔡丽莎  王 维 刘静敏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400" spc="-1" strike="noStrike">
                <a:solidFill>
                  <a:srgbClr val="c36c03"/>
                </a:solidFill>
                <a:latin typeface="Comic Sans MS"/>
              </a:rPr>
              <a:t>林晓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李武鑫 李娜 温丽婷 李响 章泽龙 卓志海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2400" spc="-1" strike="noStrike">
                <a:solidFill>
                  <a:srgbClr val="c36c03"/>
                </a:solidFill>
                <a:latin typeface="Comic Sans MS"/>
              </a:rPr>
              <a:t>张静琼 王芳 钟樱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6c03"/>
                </a:solidFill>
                <a:latin typeface="宋体"/>
              </a:rPr>
              <a:t>张金 吴泽涛 邓思敏  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上课积极回答问题者：</a:t>
            </a: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蔡丽莎  王  维  李  明   刘静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李  娜  温丽婷  章泽龙  李武鑫  蔡婷婷等等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美德之星：</a:t>
            </a:r>
            <a:r>
              <a:rPr b="1" lang="zh-CN" sz="2800" spc="-1" strike="noStrike">
                <a:solidFill>
                  <a:srgbClr val="c36c03"/>
                </a:solidFill>
                <a:latin typeface="宋体"/>
              </a:rPr>
              <a:t>吕丽华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张金  </a:t>
            </a:r>
            <a:r>
              <a:rPr b="0" lang="zh-CN" sz="2400" spc="-1" strike="noStrike">
                <a:solidFill>
                  <a:srgbClr val="c36c03"/>
                </a:solidFill>
                <a:latin typeface="Comic Sans MS"/>
              </a:rPr>
              <a:t>张静琼 王芳 钟樱媚  张静琼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6c03"/>
                </a:solidFill>
                <a:latin typeface="Comic Sans MS"/>
              </a:rPr>
              <a:t>沈艳玲  蔡丽莎 刘静敏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400" spc="-1" strike="noStrike">
                <a:solidFill>
                  <a:srgbClr val="9966ff"/>
                </a:solidFill>
                <a:latin typeface="Comic Sans MS"/>
              </a:rPr>
              <a:t>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设计插画 7 - jy6.jpg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14600" y="762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808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荣誉表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628640"/>
            <a:ext cx="8382240" cy="40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班干部  之星：吕丽华   李 响  李 娜  薛丹燕  苏文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  步  之  星：</a:t>
            </a:r>
            <a:r>
              <a:rPr b="1" lang="zh-CN" sz="2400" spc="-1" strike="noStrike">
                <a:solidFill>
                  <a:srgbClr val="e4005c"/>
                </a:solidFill>
                <a:latin typeface="Comic Sans MS"/>
              </a:rPr>
              <a:t>沈 艳 玲 王  维  刘静敏   </a:t>
            </a:r>
            <a:r>
              <a:rPr b="1" lang="zh-CN" sz="2800" spc="-1" strike="noStrike">
                <a:solidFill>
                  <a:srgbClr val="e4005c"/>
                </a:solidFill>
                <a:latin typeface="Times New Roman"/>
              </a:rPr>
              <a:t>李武鑫王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5c"/>
                </a:solidFill>
                <a:latin typeface="Times New Roman"/>
              </a:rPr>
              <a:t>钟樱媚  贺婷娜  邓超权   李   娜 张静琼 李响王冬丽               </a:t>
            </a:r>
            <a:r>
              <a:rPr b="1" lang="zh-CN" sz="2400" spc="-1" strike="noStrike">
                <a:solidFill>
                  <a:srgbClr val="e4005c"/>
                </a:solidFill>
                <a:latin typeface="Comic Sans MS"/>
              </a:rPr>
              <a:t>                </a:t>
            </a:r>
            <a:r>
              <a:rPr b="1" lang="zh-CN" sz="2800" spc="-1" strike="noStrike">
                <a:solidFill>
                  <a:srgbClr val="e4005c"/>
                </a:solidFill>
                <a:latin typeface="Times New Roman"/>
              </a:rPr>
              <a:t>陈海波  苏文杰  杨妙贞邓思敏 章泽龙 李琴 林晓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征文获一等奖   蔡丽莎  余金玲    刘静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征文  获二等奖  李   娜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征文  获三等奖  罗蓝萍  温丽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期中考试成绩优异学生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6c0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36c03"/>
                </a:solidFill>
                <a:latin typeface="Arial"/>
              </a:rPr>
              <a:t>沈艳玲     蔡丽莎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6c0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36c03"/>
                </a:solidFill>
                <a:latin typeface="Arial"/>
              </a:rPr>
              <a:t>王    维     李   明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6c0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36c03"/>
                </a:solidFill>
                <a:latin typeface="Arial"/>
              </a:rPr>
              <a:t>刘静敏     吴泽涛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6c0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36c03"/>
                </a:solidFill>
                <a:latin typeface="Arial"/>
              </a:rPr>
              <a:t>王树健     章泽龙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6c0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36c03"/>
                </a:solidFill>
                <a:latin typeface="Arial"/>
              </a:rPr>
              <a:t>卓志海     于   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762120" y="1752480"/>
            <a:ext cx="76960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家长代表介绍教育经验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295280" y="2286000"/>
            <a:ext cx="693432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各任课老师发言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18560" y="404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班级还存在的主要问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981000"/>
            <a:ext cx="79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个别学生的学习主动性不强，学习要在老师和家长的再三督促下进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989000"/>
            <a:ext cx="76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自修课不够珍惜时间，做完作业后喜欢轻声说话，不能有效地利用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400536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外知识的拓展不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者带一些与学习无关的书，如关于游戏的书、不健康的口袋书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350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自我控制能力不强，上课容易开小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2997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有部分学生作业不能及时完成上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37372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早自修早来不能早读，甚至有同学在教室闲聊，看小人书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8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508720" y="505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点建议和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765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希望您一如既往的支持学校、支持全体老师的工作，适时的提出宝贵的 意见和建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3429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创设良好的家庭育人环境。以自己良好的道德行为来影响自己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91628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建议您的手机开通家校通服务，我们班现在已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加入这样你就能非常及时的了解孩子的在校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43700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纠正孩子的关键性缺点时一定要考虑成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最佳地点和时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5516640"/>
            <a:ext cx="65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培养孩子的做人做事的责任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508720" y="505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和孩子共同拟定一份切实可行的学习计划，日积月累、坚持不懈，孩子一定学有所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4842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帮助、鼓励、监督，而不是讽刺、挖苦、逼迫孩子。甚至一昧的打骂为主要教育手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56536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正确看待孩子的学习，永远不要对孩子丧失信心，“尺有所长，寸有所短”成绩不是衡量一个人的唯一标准，只要孩子懂得做人的道理、学到有用的知识，那他就是成功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最后，希望家长们都能带着一个好的心情去面对你的孩子，我想学习应当是快乐的，家庭应当是温馨的，成长应当是幸福的。谢谢大家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5c"/>
                </a:solidFill>
                <a:latin typeface="黑体"/>
                <a:ea typeface="黑体"/>
              </a:rPr>
              <a:t>培   养   目   标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2100240"/>
            <a:ext cx="88423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          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为 培 养 现 代 化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                 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国 际 化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个 性 化 的 成 功    人 士 奠 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71600" y="2286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e4005c"/>
                </a:solidFill>
                <a:uFillTx/>
                <a:latin typeface="Times New Roman"/>
                <a:ea typeface="汉仪雪峰体简"/>
              </a:rPr>
              <a:t>寄语学生家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1362240"/>
            <a:ext cx="83059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坚信龙岭学校是最好的学校！坚信自己子女的老师是最好的老师！带头尊重老师，引导子女像尊重父母那样尊重老师。教育子女学会关心老师。关心、激励从来都是双向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传授知识给学生的是老师，起早摸黑陪伴着学生的是老师，循循善诱辅导学生的是老师，苦口婆心引导学生的是老师，最渴望学生成才的除了家长就是老师……只有老师才有以学生超越自己为荣耀的胸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838080" y="1219320"/>
            <a:ext cx="78487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谢谢你们的参与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11640" y="1268280"/>
            <a:ext cx="1027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治  校  策  略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68000" y="228600"/>
            <a:ext cx="56883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8bf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以    人    为    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8bf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以    德    铸    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8bf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法    情    相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8bf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和    谐    发    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5c"/>
                </a:solidFill>
                <a:latin typeface="黑体"/>
                <a:ea typeface="黑体"/>
              </a:rPr>
              <a:t>育   人   模  式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11640" y="1341360"/>
            <a:ext cx="2827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8bf9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以 塑 造 健 全 人 为 主 体  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以 成 功 教 育 与 养 成 教 育 作 为 两 翼</a:t>
            </a:r>
            <a:r>
              <a:rPr b="1" lang="zh-CN" sz="4000" spc="-1" strike="noStrike">
                <a:solidFill>
                  <a:srgbClr val="c58bf9"/>
                </a:solidFill>
                <a:latin typeface="黑体"/>
                <a:ea typeface="黑体"/>
              </a:rPr>
              <a:t> 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4608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4005c"/>
                </a:solidFill>
                <a:latin typeface="黑体"/>
                <a:ea typeface="黑体"/>
              </a:rPr>
              <a:t>深化百字办学思想</a:t>
            </a:r>
            <a:br>
              <a:rPr sz="6000"/>
            </a:br>
            <a:r>
              <a:rPr b="1" lang="zh-CN" sz="6000" spc="-1" strike="noStrike">
                <a:solidFill>
                  <a:srgbClr val="e4005c"/>
                </a:solidFill>
                <a:latin typeface="黑体"/>
                <a:ea typeface="黑体"/>
              </a:rPr>
              <a:t>   实施品牌兴校战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41720"/>
            <a:ext cx="8532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5c"/>
                </a:solidFill>
                <a:latin typeface="汉仪中宋简"/>
                <a:ea typeface="黑体"/>
              </a:rPr>
              <a:t>关</a:t>
            </a:r>
            <a:r>
              <a:rPr b="1" lang="zh-CN" sz="4800" spc="-1" strike="noStrike">
                <a:solidFill>
                  <a:srgbClr val="e4005c"/>
                </a:solidFill>
                <a:latin typeface="黑体"/>
                <a:ea typeface="黑体"/>
              </a:rPr>
              <a:t>注每个学生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5c"/>
                </a:solidFill>
                <a:latin typeface="黑体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e4005c"/>
                </a:solidFill>
                <a:latin typeface="黑体"/>
                <a:ea typeface="黑体"/>
              </a:rPr>
              <a:t>塑造一代中华英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37920" y="16002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4" marL="1889280" indent="-2984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984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强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984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984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984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984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984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984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97000" y="16002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3" marL="1519920" indent="-217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5746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为实现我校同类典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9280" y="3141720"/>
            <a:ext cx="8964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深圳一流的办学目标而努力奋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8520" y="228600"/>
            <a:ext cx="1600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c0039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8c0039"/>
                </a:solidFill>
                <a:latin typeface="Arial"/>
              </a:rPr>
              <a:t>夯     实      基     础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920" y="-360"/>
            <a:ext cx="5867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6000"/>
          </a:bodyPr>
          <a:p>
            <a:pPr lvl="1" marL="713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e4005c"/>
                </a:solidFill>
                <a:latin typeface="Arial"/>
              </a:rPr>
              <a:t>发    挥     特    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Arial"/>
              </a:rPr>
              <a:t>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全    面    进   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c36c03"/>
                </a:solidFill>
                <a:latin typeface="Arial"/>
              </a:rPr>
              <a:t>健    康    成   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2:29:4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58:21Z</dcterms:modified>
  <cp:revision>10</cp:revision>
  <dc:subject>主题班会课件(分28大类): http://shop62905894.taobao.com</dc:subject>
  <dc:title>主题班会课件(分28大类): http://shop62905894.taobao.com</dc:title>
</cp:coreProperties>
</file>